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9CCC-5B8D-4E78-A0D5-270F99F9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FFC-702E-4ABA-B263-97A24271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6BE0-B1E4-4F60-84DB-4CCAE45A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7105-C392-4A28-A504-581C155A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E58A-6FAC-40A2-BFFE-2DA13901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D183-43F4-4538-8908-A5A68329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698-9BA7-40D2-B805-C5CA0856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8C6A-1560-4D97-84B5-0014A430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601-8D38-4D2A-88F4-EA344179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21D-1F61-4D3F-8110-4EB9A080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4889-E37B-4B0B-923C-9015199A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2301-E179-484F-962D-83292376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B7D3-75B3-47FF-81F0-FB45DB15C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1.03: Direct Var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Recall …the Direct Variation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…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and the Constant of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DIRECT VARIATION IS 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A 175-lb person on Earth weighs 66.5 pounds on Mars. The weight on Earth varies directly as weight on Mars. What does a person weigh on Earth who weighs 150 lbs.  on M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Write an equation of the direct variation that includes (8, -2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Assuming that </a:t>
            </a:r>
            <a:r>
              <a:rPr b="0" i="1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y</a:t>
            </a: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 varies directly as </a:t>
            </a:r>
            <a:r>
              <a:rPr b="0" i="1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x</a:t>
            </a: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, if  </a:t>
            </a:r>
            <a:r>
              <a:rPr b="0" i="1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y </a:t>
            </a: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= 24 when </a:t>
            </a:r>
            <a:r>
              <a:rPr b="0" i="1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x </a:t>
            </a: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= -48 , find </a:t>
            </a:r>
            <a:r>
              <a:rPr b="0" i="1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y</a:t>
            </a: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 when </a:t>
            </a:r>
            <a:r>
              <a:rPr b="0" i="1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x </a:t>
            </a: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= -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Arial"/>
              </a:rPr>
              <a:t>Mark's Innovative Internet Company is selling more software packages each day it is in business. From the data in the table, write a direct variation modeling the relationship. Estimate the number of units sold after 160 days in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graphic"/>
          <p:cNvPicPr/>
          <p:nvPr/>
        </p:nvPicPr>
        <p:blipFill>
          <a:blip r:embed="rId1"/>
          <a:stretch/>
        </p:blipFill>
        <p:spPr>
          <a:xfrm>
            <a:off x="3352680" y="3429000"/>
            <a:ext cx="2438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The following shapes are similar figures. Find the value of the </a:t>
            </a:r>
            <a:r>
              <a:rPr b="0" i="1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x</a:t>
            </a: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1333440" y="3314520"/>
            <a:ext cx="2819160" cy="1828800"/>
          </a:xfrm>
          <a:prstGeom prst="rtTriangle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5753160" y="3009960"/>
            <a:ext cx="1752480" cy="1371600"/>
          </a:xfrm>
          <a:prstGeom prst="rtTriangle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6292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01:42:51Z</dcterms:created>
  <dc:creator>Sharon Fieldman</dc:creator>
  <dc:description/>
  <dc:language>en-US</dc:language>
  <cp:lastModifiedBy>Sharon Fieldman</cp:lastModifiedBy>
  <dcterms:modified xsi:type="dcterms:W3CDTF">2010-12-01T03:24:02Z</dcterms:modified>
  <cp:revision>10</cp:revision>
  <dc:subject/>
  <dc:title>Recall …the Direct Variation Form</dc:title>
</cp:coreProperties>
</file>